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9399-94DD-42BF-810D-31AB3A846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2294-0711-47F6-A0CD-E8E03A5ED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69B2-E7A9-48CA-9152-F21729F5E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9143-97D4-4776-818B-FD74A41A8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CEBA-FAD6-471E-8188-592DB37D1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F215-C2D2-4F11-8DD2-8C2AF3EE8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41CE-8032-4410-B463-581BFF4C6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9AD2-532F-424D-81D7-6B3BA0885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4AAD-840E-49B6-8B07-E1F24EE5B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284A-F61B-4F51-904A-DEF3B40E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B309-173A-4A0D-BC13-2242EF4CB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9E65-BE7F-405F-8A20-E8A16F00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E9E-2F10-4BCD-AF2C-C2B71FB5B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user/onthegotours?v=eKW3e02QMLM&amp;feature=py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5027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Arial"/>
              </a:rPr>
              <a:t>Zambi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e.png" descr=""/>
          <p:cNvPicPr/>
          <p:nvPr/>
        </p:nvPicPr>
        <p:blipFill>
          <a:blip r:embed="rId1"/>
          <a:stretch/>
        </p:blipFill>
        <p:spPr>
          <a:xfrm>
            <a:off x="7467480" y="4038480"/>
            <a:ext cx="1409760" cy="1524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st Fac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capital: Lusa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population: 14,309,4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land area: 740,724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elevation: 329 m - 2,301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ethnic groups: African 98.7%; European 1.1%; other 0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religions: Christian 50-75%, Muslim and Hindu 24-49%, indigenous beliefs 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languages: English (official), 70 other indigenous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government: re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currency: Zambian kwacha (1 CAD = 5,051.55 ZM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There are 107 airports in Zamb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 9 of them have paved runways and 98 have unpaved run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Zambia used to be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Northern Rhodesia</a:t>
            </a: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.png" descr=""/>
          <p:cNvPicPr/>
          <p:nvPr/>
        </p:nvPicPr>
        <p:blipFill>
          <a:blip r:embed="rId2"/>
          <a:stretch/>
        </p:blipFill>
        <p:spPr>
          <a:xfrm>
            <a:off x="6410160" y="228600"/>
            <a:ext cx="249264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image.png" descr=""/>
          <p:cNvPicPr/>
          <p:nvPr/>
        </p:nvPicPr>
        <p:blipFill>
          <a:blip r:embed="rId3"/>
          <a:stretch/>
        </p:blipFill>
        <p:spPr>
          <a:xfrm>
            <a:off x="457200" y="0"/>
            <a:ext cx="1600200" cy="1552680"/>
          </a:xfrm>
          <a:prstGeom prst="rect">
            <a:avLst/>
          </a:prstGeom>
          <a:ln w="0">
            <a:noFill/>
          </a:ln>
        </p:spPr>
      </p:pic>
      <p:pic>
        <p:nvPicPr>
          <p:cNvPr id="45" name="zambia_dancer_2006_10_03.jpg" descr="zambia_dancer_2006_10_03"/>
          <p:cNvPicPr/>
          <p:nvPr/>
        </p:nvPicPr>
        <p:blipFill>
          <a:blip r:embed="rId4"/>
          <a:stretch/>
        </p:blipFill>
        <p:spPr>
          <a:xfrm>
            <a:off x="4425840" y="914400"/>
            <a:ext cx="1441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Brief History of Zambi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100,000 years ago, on the ancient land we now call Zambia, mankind's ancestors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to be the beginnings of the human ra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iv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known a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thern Rhodes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mbabwe, its neighbor to the south, was called Southern Rhodes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Zambia was controlled by the South Africa Company from 1891 until it was taken over by the United Kingdom      in 192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1920s and 1930s, advances in copper mining spurred development and European immigration to the are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.png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49" name="image.png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was changed to Zambia upon independence from Britain in 19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1980s and 1990s, declining copper prices and a prolonged drought hurt the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ions in 1991 brought an end to one-party rule, but the vote in 1996 saw obvious harassment of the opposition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ion in 2001 had many                                   problems; three parties filed a legal                             petition challenging the election of                                    the ruling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president launched an anti-corruption campaign in 2002. Opposition parties currently                            hold a majority of seats in                                                the National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.png" descr=""/>
          <p:cNvPicPr/>
          <p:nvPr/>
        </p:nvPicPr>
        <p:blipFill>
          <a:blip r:embed="rId1"/>
          <a:stretch/>
        </p:blipFill>
        <p:spPr>
          <a:xfrm>
            <a:off x="6858000" y="5181480"/>
            <a:ext cx="1895400" cy="1419480"/>
          </a:xfrm>
          <a:prstGeom prst="rect">
            <a:avLst/>
          </a:prstGeom>
          <a:ln w="0">
            <a:noFill/>
          </a:ln>
        </p:spPr>
      </p:pic>
      <p:pic>
        <p:nvPicPr>
          <p:cNvPr id="52" name="image.png" descr=""/>
          <p:cNvPicPr/>
          <p:nvPr/>
        </p:nvPicPr>
        <p:blipFill>
          <a:blip r:embed="rId2"/>
          <a:stretch/>
        </p:blipFill>
        <p:spPr>
          <a:xfrm>
            <a:off x="4876920" y="55627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hiv-aids-zambia-large.jpg" descr="hiv-aids-zambia-large"/>
          <p:cNvPicPr/>
          <p:nvPr/>
        </p:nvPicPr>
        <p:blipFill>
          <a:blip r:embed="rId3"/>
          <a:srcRect l="0" t="0" r="0" b="4612"/>
          <a:stretch/>
        </p:blipFill>
        <p:spPr>
          <a:xfrm>
            <a:off x="2362320" y="4879800"/>
            <a:ext cx="265104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y Zamb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7895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arth’s biggest waterfall (Victoria Falls) and other spectacular waterf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rica’s finest safaris, including the legendary African walking safar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lakes, rich wetlands, and the wild Zambezi R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game (animals), abundant birdlife, and raw wilder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rush activities, like river rafting, rock climbing, and bungee jump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nic splendor throughout the count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.png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image.png" descr=""/>
          <p:cNvPicPr/>
          <p:nvPr/>
        </p:nvPicPr>
        <p:blipFill>
          <a:blip r:embed="rId2"/>
          <a:stretch/>
        </p:blipFill>
        <p:spPr>
          <a:xfrm>
            <a:off x="5943600" y="3048120"/>
            <a:ext cx="2666880" cy="1780920"/>
          </a:xfrm>
          <a:prstGeom prst="rect">
            <a:avLst/>
          </a:prstGeom>
          <a:ln w="0">
            <a:noFill/>
          </a:ln>
        </p:spPr>
      </p:pic>
      <p:pic>
        <p:nvPicPr>
          <p:cNvPr id="58" name="image.png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image.png" descr=""/>
          <p:cNvPicPr/>
          <p:nvPr/>
        </p:nvPicPr>
        <p:blipFill>
          <a:blip r:embed="rId4"/>
          <a:stretch/>
        </p:blipFill>
        <p:spPr>
          <a:xfrm>
            <a:off x="6324480" y="5076720"/>
            <a:ext cx="26672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cent years an impressiv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uch nee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llection of national parks has developed in an effort to protect once decimated species of wildlife, including elephants, leopards and l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.png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57400" cy="1540080"/>
          </a:xfrm>
          <a:prstGeom prst="rect">
            <a:avLst/>
          </a:prstGeom>
          <a:ln w="0">
            <a:noFill/>
          </a:ln>
        </p:spPr>
      </p:pic>
      <p:pic>
        <p:nvPicPr>
          <p:cNvPr id="62" name="image.png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666880" cy="1771920"/>
          </a:xfrm>
          <a:prstGeom prst="rect">
            <a:avLst/>
          </a:prstGeom>
          <a:ln w="0">
            <a:noFill/>
          </a:ln>
        </p:spPr>
      </p:pic>
      <p:pic>
        <p:nvPicPr>
          <p:cNvPr id="63" name="image.png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64" name="image.png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5052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image.png" descr=""/>
          <p:cNvPicPr/>
          <p:nvPr/>
        </p:nvPicPr>
        <p:blipFill>
          <a:blip r:embed="rId5"/>
          <a:stretch/>
        </p:blipFill>
        <p:spPr>
          <a:xfrm>
            <a:off x="914400" y="5181480"/>
            <a:ext cx="2209680" cy="126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.png" descr=""/>
          <p:cNvPicPr/>
          <p:nvPr/>
        </p:nvPicPr>
        <p:blipFill>
          <a:blip r:embed="rId6"/>
          <a:stretch/>
        </p:blipFill>
        <p:spPr>
          <a:xfrm>
            <a:off x="4267080" y="2057400"/>
            <a:ext cx="18226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image.png" descr=""/>
          <p:cNvPicPr/>
          <p:nvPr/>
        </p:nvPicPr>
        <p:blipFill>
          <a:blip r:embed="rId7"/>
          <a:stretch/>
        </p:blipFill>
        <p:spPr>
          <a:xfrm>
            <a:off x="4648320" y="380880"/>
            <a:ext cx="19047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urism in Za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71800" y="114300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s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Kabwata Cultural Vill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voted to the preservation of indigenous arts and crafts and displays of traditional danc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Cathedral of the Holy Cross, the Munda Wanga Botanical Gardens and Zoo and the Lusaka National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tional Par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most one-third of the country is given over to national parks and game reserves; tourism is mostly concentrated in 8 of 19 pa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.png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72080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image.png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146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02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faris in Za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ual method of animal watching is from an open-topped Land Rover, but walking and canoeing tours are also available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guide will be armed!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ght-time safaris are also possib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wildlife includes buffalo, elephant, antelope, lion, zebra, rhino, hippo and crocodi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watching is also popular in Zambia where 400 different species of birds have been record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.png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.png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1905120" cy="1274760"/>
          </a:xfrm>
          <a:prstGeom prst="rect">
            <a:avLst/>
          </a:prstGeom>
          <a:ln w="0">
            <a:noFill/>
          </a:ln>
        </p:spPr>
      </p:pic>
      <p:pic>
        <p:nvPicPr>
          <p:cNvPr id="76" name="image.png" descr=""/>
          <p:cNvPicPr/>
          <p:nvPr/>
        </p:nvPicPr>
        <p:blipFill>
          <a:blip r:embed="rId3"/>
          <a:stretch/>
        </p:blipFill>
        <p:spPr>
          <a:xfrm>
            <a:off x="7086600" y="4267080"/>
            <a:ext cx="17146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image.png" descr=""/>
          <p:cNvPicPr/>
          <p:nvPr/>
        </p:nvPicPr>
        <p:blipFill>
          <a:blip r:embed="rId4"/>
          <a:srcRect l="31585" t="0" r="0" b="20373"/>
          <a:stretch/>
        </p:blipFill>
        <p:spPr>
          <a:xfrm>
            <a:off x="5943600" y="5562720"/>
            <a:ext cx="297036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user/onthegotours?v=eKW3e02QMLM&amp;feature=p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